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466-6E00-4F24-B7C9-0AF6D743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4A6-6B06-4721-B323-E1ACC0D4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82CAE-D5B1-4F49-B025-2DC81956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47053-84DB-4423-864E-B46F9C01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8A789-76DD-4609-A8A5-2BE930ED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F5563-BD86-47B6-8B84-59247C55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BC92E-903C-4BE3-A4EF-ED28FC4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A6139-2A29-4D7C-9C0A-E0308F6F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2A33C-AB4C-4081-B8EE-DC46DC0D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10807-AB2F-47B1-8C38-AE6BCDF9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9337C-BC53-4929-9149-BDC902A8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26946-08BE-4EDC-90E0-77511035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F42-B7D6-41C6-986A-A191763C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3F1A0-28A0-4002-B182-7B3B1168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6297F-BB4E-4789-BCAE-C05F8E73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EB3BB-1C6D-495F-A5C6-5E87D68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9665C-DA7C-4481-8FD3-76063E94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C848A-A30B-406F-B5E8-F1D936FA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A2938-2DBC-40E4-9CDF-0B3167C2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61A7B-2DF5-4F7B-8203-A3E70BEB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AF8AC-1178-4591-8961-9342754C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61CB0-848E-4352-9E18-FD8EA168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CFA18-B581-48DB-BF51-F4964389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A84-EEC7-4147-B030-E3753C0B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99B72-A249-4A71-A30F-1E88C387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E1E72-A661-4102-9477-F9D2E841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2CD0C-5894-4712-98B8-0064EAB3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69EC0-60AF-4BA1-AA98-45D792B8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0A855-BB61-4C8E-A836-B81F953C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5E08C-B58E-4828-98F1-60B3AF03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5F850-F937-4CAE-AD65-0EE28ACF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F4110-D6A0-408F-8958-6FFD8BD5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20006-42B8-4051-9E4F-284593A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C332E-7AFE-4105-880A-EDA1BDA8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EF6D-32D1-4D39-854B-8F4695CF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F565E-6CA0-4856-BB10-CE1B66B0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B9362-F570-4F7A-8288-78A8FDCC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B2236-0F10-43FD-B621-074E7E0A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E3C7B-47FB-436A-BF24-A43879EB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2E73A-3C01-444A-A722-48217A54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55E1D-6A4A-45E9-986F-D8CA3E4F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18520-0DC5-4689-86C2-12667D4C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A2CB2-93B8-4EEC-8DB8-ED70B4A7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DBD0A-8420-4BDB-87C5-3791318E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B15AE-D694-428A-83CD-ED7453F6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180E-7137-4B6B-81F6-9E752218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09D8C-3CEC-48AC-B33F-B51B5C7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0D8ED-B213-43B8-942C-F68E3AEE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53111-E9A7-4EC3-B1CA-57C1DF19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3CB92-C1F6-40D6-8761-ABF5507A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77BE0-9988-4A1B-A4C0-382AA187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D3B98-9938-4211-8ABF-4C6C427E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E0EC8-1246-4FE2-8813-D46C4EE9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20F3D-85ED-47FB-BDC0-7174E0AD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B452D-DB05-49C1-ACFA-8E66B5E6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F1E79-ECF4-478C-B0E0-0883893E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B519-BA4F-44DA-AAB1-8AF79C45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53B91-7EDA-422B-80DF-245CB683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1B0E8-CA70-41D9-ACF9-82697E65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F37EB-289D-4B6D-98B4-DA25F6C0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6A8D6-C156-49F5-8CC2-99065C2C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6F7C9-53FB-4EEE-9025-EB88BAE4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60C87-2463-40E6-87EC-7350AB34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9D94C-7CF9-4DAE-9A9B-770F331A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A3108-4D17-41C2-BA55-35BA6BD1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645BE-EE53-4DF2-B52B-2E751A4E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662A8-B561-48FF-A7E5-55D444B0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282D-60CD-40CA-9857-6DE5F7A5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1124A-FE4F-4A3F-8308-801927D3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0B161-FD30-4ADC-AB63-570B189E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B3979-3A6C-48B0-90FC-48CB4407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20434-ACE6-4738-9B2E-8E6D8AC8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1463C-ADA2-4878-8D9D-8CA6D78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69239-897B-4A4C-8E5F-378282D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16D6CB-E3FF-4F2F-AB97-5EFFB915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FE1D1-C41B-454F-9903-0C56E3D6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80A80-68CB-4C62-BFA2-EF453D2F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0230-2DA3-4F40-8686-E08DBAB3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B133-ADF7-4009-93BE-2A3169DE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9148-377F-4C51-AF1F-9F7C2908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406-566D-4949-90B9-D79DDEE3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C5D1-65C4-4D52-91D4-782DC1B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589D-ED4B-4FD2-BEC5-3220CFB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FCD5-EABA-40F2-B208-B911C8E2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29FA-8AFA-4DF5-88A1-C4846478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B2F8-BBB1-4B13-88E2-A55D0D9D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0331-F03B-460A-91C4-160B060F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413E-3500-461B-9C6F-CE2744B7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8A53-277B-4211-94E2-87BF317E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E255-EC76-424D-96CD-E247BD78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E88F-9BF8-4696-BAB9-B5433056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4C7-BC62-4135-B09E-5686FE37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BAD7-6039-4B51-8796-261E0D12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7BA16-4CD6-4F8D-A95B-AF48A10E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A430-2BB1-4ADC-949C-2AFDC1DF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3844-5C19-4A4F-A254-29A2C8D4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17DE-ED31-4BA4-BB48-DD6B711C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B173-10F7-4737-9F91-26F09683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083E-F350-45B5-9625-F54D416F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01BA-E2DD-4E60-AEBF-52FFEFF8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CC18-18B6-45C7-B8C1-0CBDD89B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1CD3-9A85-4948-8194-19FC1BAE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A3D-9278-4571-99B9-0844A31E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4F43-9619-4813-91E7-3813BDFE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5D2F3-1DB3-4DF4-BBA6-8897889D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9E39-1822-4184-997E-209A8DEC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AE285-141D-469B-A934-E7CA4718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401D7-943A-47EE-A5A4-7394F82F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43CC-55D8-4523-8701-079227EA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C3324-1372-4674-91BC-40A00906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F55B-CFAF-4AC3-9AEB-1D0D0833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BC92-BF99-44F9-8F81-F2FF689E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F3F1D-4B62-4852-B43E-D8EE70AC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48A-0235-47E0-B691-9A59AFF5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3F485-8B25-4D77-949C-A52883E8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4EDEF-D6CA-406B-8772-C63E602F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D8F4D-9A3D-4FCC-80DA-CFFDD1A3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226C7-9A75-41B4-89B5-0B84D0CA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3BF87-23A8-417B-8EF6-32598A70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A793A-A3D0-4D84-AE6C-28D93B2A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CFAAC-8947-4092-B77D-473DCD5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BED3B-4F3B-48C8-BB5F-9338200D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291DE-543C-493D-B01A-AB8167EA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8C41E-0D84-4DFE-A0AF-E2612750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BDE-EC80-4EE5-834C-DF92EB5A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C013F-64F2-457D-8BA7-D74B88E1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9C08D-F03D-4F61-85FF-0AFF3263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48D9C-FAF4-4242-8756-F3458423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0B148-4903-4CC7-AA7E-1DF49177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8AC04-30CD-44AA-AAB1-7FB0E2E6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CC2C2-3E97-4B99-8F84-9DB1BF61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2DF4B-AEA2-4B4D-B2E0-84AA9D81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31DED-6B2D-459E-8C7E-77FB35DC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0C05D-C7F0-42A2-B433-FEE3787F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022B3-078F-41A8-970A-3464F331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38E-1BD4-4028-90F0-1BDAD202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6E9A0-8DB7-48CA-8355-C96280AF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09C25-526A-4A78-B3E8-BF97FE66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65C4B-7349-4ABE-ADDA-5EF979F9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235D9-6E67-4935-A586-0C17C536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E39D0-C652-4D84-A472-C08A8A48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22F09-8A28-4469-90BA-85D3C8BF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23886-0B98-476D-BA70-08E95BCA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5D3A1-E9F4-4721-A0DE-3A0709FF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051A1-A913-4175-AF43-573F8508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5833F-2187-4ECB-9D9C-7B77DC20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7F1-78FA-45F6-8FCA-205D6EA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299B1-D261-49F3-874A-EAA5A648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BDA4F-2664-4E5C-87DB-7B5702FC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30F0-130C-4975-9432-F99D1002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82CBD-B5DB-4395-BA6E-336FFF5F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3CE0-25E0-42DD-9308-B61396CE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2730B-054C-40EA-9945-CEBD9C75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1AA51-103B-426D-A3B7-48E00A80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109C0-75BE-4F05-ACBA-07710753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49D67-A934-45AC-98A3-20BE83A9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9E842-2D53-4B45-AF1E-EBFC6A51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1F4-7A8E-4A79-986A-C03C290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FF9B5-59A0-4C8C-BF05-39D94676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D7F4E-17AB-43DF-BAF8-1C525FE8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3489B-44A8-4B42-8CB4-D291A94F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EB0A7-FD11-4F72-AE79-3E5259D9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C0AA2-72CE-45BD-ABB6-61E647D0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FD985-2BDA-4B23-8B25-6D495DF9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67C03-739D-4570-930F-A3ABF7AD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78273-B828-4167-91FB-88907CAC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BC6EA-3DA8-4C9C-A38B-E5AEE517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2B29C-2F0A-419F-BB1A-0D035B6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A0FB-9FE9-4A74-BFCC-413F657F5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8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BC03-B532-491D-B6DC-3EAE7F1823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68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2728-6827-4099-8A1B-4974421496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13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1CCA-3769-4C15-BBAC-9F8A2D3375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5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4417-BB52-4BE0-858D-7D7E748398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0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F679-7E10-4B71-BEDC-28E6023956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A7F1-67CE-4137-AAF4-ED7563644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9F39-EA99-4DA4-8D3C-EA464E46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0E97-499E-4B7A-B0ED-48D33D81B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953A-832B-4284-895B-5744A3AA05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6338-01F9-4A87-97CE-7FE1DE1FD2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1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4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B43D-E410-4593-A3FE-22192C923B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1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2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3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5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FFFC-D097-4AC9-B3B7-0C28E6C622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0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002C-8006-4D2A-A65B-BCE68756CF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4" Type="http://schemas.openxmlformats.org/officeDocument/2006/relationships/image" Target="../media/image3.png"/><Relationship Id="rId75" Type="http://schemas.openxmlformats.org/officeDocument/2006/relationships/hyperlink" Target="http://forums.zooclub.ru/showthread.php?t=3058&amp;page=2" TargetMode="External"/><Relationship Id="rId76" Type="http://schemas.openxmlformats.org/officeDocument/2006/relationships/image" Target="../media/image3.png"/><Relationship Id="rId77" Type="http://schemas.openxmlformats.org/officeDocument/2006/relationships/hyperlink" Target="http://www.fantbook.info/book14.html" TargetMode="External"/><Relationship Id="rId78" Type="http://schemas.openxmlformats.org/officeDocument/2006/relationships/image" Target="../media/image3.png"/><Relationship Id="rId79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ие виды животных исчезли, стали редкими на Земл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хипова Я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а»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ыктывк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009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5025960" cy="40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136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ЦЕЛЬ НАШЕГО ИССЛЕДОВАНИЯ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ыяснить причины исчезновения некоторых животных на нашей плане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ДАЧИ НАШЕГО ИССЛЕДОВАН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знакомиться с видами исчезнувших животн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знакомиться с редкими видами животн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ть меры борьбы  с  исчезновением этих животн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аких животных уже не существует в природе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аблезубый тиг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амон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Чепрачный тап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Индийский носорог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5027760" y="1984320"/>
          <a:ext cx="3587760" cy="26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1984320"/>
                    <a:ext cx="358776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9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то был предком домашней лошади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2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4016520" y="1773360"/>
            <a:ext cx="3614760" cy="32734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Животные, которых не приручит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2666880" y="2427120"/>
            <a:ext cx="3810240" cy="287676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br>
              <a:rPr sz="40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Для сохранения отдельных видов животных в настоящее время создаются все благоприятные условия: заповедники, заказники, зоопар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В нашей республике также имеются заповедные места: Югыд Ва- национальный парк, Печоро - Илычский заповедник, множество станций юннатов,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писок используемой литератур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атериалы на печатной основе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Биология. Животные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. </a:t>
            </a: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Учебное пособие для учащихся 7 классов. Под ред. В. Г. Бабенко. Москва, издательский центр «Вентана-Граф»,2002 год,304с. Большая школьная энциклопедия, том 1, под ред. А. А. Орлова. М.:2004г, 704с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нтернет, ресурсы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"/>
              </a:rPr>
              <a:t>http://natalymore.blog.ru/?year=2009http://www.li.ru/interface/pda/?jid=1807142&amp;pid=85025168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"/>
              </a:rPr>
              <a:t>http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"/>
              </a:rPr>
              <a:t>://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"/>
              </a:rPr>
              <a:t>dic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7"/>
              </a:rPr>
              <a:t>.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8"/>
              </a:rPr>
              <a:t>academic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9"/>
              </a:rPr>
              <a:t>.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10"/>
              </a:rPr>
              <a:t>ru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11"/>
              </a:rPr>
              <a:t>/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12"/>
              </a:rPr>
              <a:t>dic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13"/>
              </a:rPr>
              <a:t>.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14"/>
              </a:rPr>
              <a:t>nsf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15"/>
              </a:rPr>
              <a:t>/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16"/>
              </a:rPr>
              <a:t>dic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17"/>
              </a:rPr>
              <a:t>_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18"/>
              </a:rPr>
              <a:t>biology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19"/>
              </a:rPr>
              <a:t>/3668/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20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21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22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23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24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25"/>
              </a:rPr>
              <a:t>0%95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26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27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28"/>
              </a:rPr>
              <a:t>F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29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30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1"/>
              </a:rPr>
              <a:t>0%9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32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3"/>
              </a:rPr>
              <a:t>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34"/>
              </a:rPr>
              <a:t>A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5"/>
              </a:rPr>
              <a:t>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36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7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38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9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0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41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2"/>
              </a:rPr>
              <a:t>E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43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4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45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6"/>
              </a:rPr>
              <a:t>A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47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8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49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50"/>
              </a:rPr>
              <a:t>E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1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52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3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54"/>
              </a:rPr>
              <a:t>F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5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56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7"/>
              </a:rPr>
              <a:t>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58"/>
              </a:rPr>
              <a:t>AB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9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0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61"/>
              </a:rPr>
              <a:t>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2"/>
              </a:rPr>
              <a:t>A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63"/>
              </a:rPr>
              <a:t>2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4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65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6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67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8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69"/>
              </a:rPr>
              <a:t>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70"/>
              </a:rPr>
              <a:t>AB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71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72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73"/>
              </a:rPr>
              <a:t>0%95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0b854"/>
                </a:solidFill>
                <a:uFillTx/>
                <a:latin typeface="Arial"/>
                <a:hlinkClick r:id="rId75"/>
              </a:rPr>
              <a:t>http://forums.zooclub.ru/showthread.php?t=3058&amp;page=2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0b854"/>
                </a:solidFill>
                <a:uFillTx/>
                <a:latin typeface="Arial"/>
                <a:hlinkClick r:id="rId77"/>
              </a:rPr>
              <a:t>http://www.fantbook.info/book14.htm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http://www.zooclub.ru/zanim/1.shtm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40:06Z</dcterms:created>
  <dc:creator>User</dc:creator>
  <dc:description/>
  <dc:language>en-US</dc:language>
  <cp:lastModifiedBy>User</cp:lastModifiedBy>
  <dcterms:modified xsi:type="dcterms:W3CDTF">2009-11-22T09:04:02Z</dcterms:modified>
  <cp:revision>9</cp:revision>
  <dc:subject/>
  <dc:title>Какие виды животных исчезли, стали редкими на Земле?</dc:title>
</cp:coreProperties>
</file>